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97F-186D-4A59-A30C-E475A437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830-828A-4F94-A5C3-6726EA79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D5E-235D-4569-92DE-FBB0FEA2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142-B0EF-4AAF-8A95-522009DB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DA3-DE00-432C-8AB7-9F23C8D6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9AE-DEE0-4F12-93AD-B01B727F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4AE-DEF7-4311-A484-1CCCBEB1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91F8-0934-432C-A079-5E7C381F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36A-9BC5-4660-90AF-96CD9615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7885-2F3F-4437-AAD5-29EFD060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CBA-A297-443F-B5DD-C2ED55C4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D3DD-E1F5-4715-94B1-FDB8AE5A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FBA7-7C3D-4508-82E4-C6991C55C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ll 2009 Test II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Chapters 1 to 1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Closed Boo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Complete the table below for the verb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BE</a:t>
            </a:r>
            <a:r>
              <a:rPr b="1" lang="en" sz="2400" spc="-1" strike="noStrike">
                <a:solidFill>
                  <a:srgbClr val="ff0000"/>
                </a:solidFill>
                <a:latin typeface="Arial"/>
              </a:rPr>
              <a:t>Ō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 HABĒ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 have, hol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BE</a:t>
            </a:r>
            <a:r>
              <a:rPr b="0" lang="en" sz="3200" spc="-1" strike="noStrike">
                <a:solidFill>
                  <a:srgbClr val="ff0000"/>
                </a:solidFill>
                <a:latin typeface="Arial"/>
              </a:rPr>
              <a:t>Ō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I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e hold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Ē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BĒ</a:t>
            </a:r>
            <a:r>
              <a:rPr b="0" lang="en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You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BĒ</a:t>
            </a:r>
            <a:r>
              <a:rPr b="0" lang="en" sz="3200" spc="-1" strike="noStrike">
                <a:solidFill>
                  <a:srgbClr val="ff0000"/>
                </a:solidFill>
                <a:latin typeface="Arial"/>
              </a:rPr>
              <a:t>TI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You all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e, she or it holds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For each phrase below transl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English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 PORTAS   __________________________ th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, to, to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TE BELLUM  ________________________the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RA GRAECOS _____________________the Gr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 EQUUM _____________________________the h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ST MORTEM _________________________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PE RIVUM __________________________the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ar, nex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For each phrase below transl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English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 (or EX) RAEDA __________________________the car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, ou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 AGRIS _________________________________th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O BONO ________________________________the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B ARBORIBUS __________________________the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, ben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eative writ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hoose the ending.  Use at least 10 words in correct Latin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UNC ANCILLA IN VIA SPECTAT.  MARCUS RAEDAM ASCENDIT ET CORNELII DISCEDENT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UIS RĪDE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UIS LACRIMA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UIS CL</a:t>
            </a:r>
            <a:r>
              <a:rPr b="1" lang="en" sz="32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ŪR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Give the English pronoun equivalent to each of the follow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al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90720" y="15238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, she,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" sz="2800" spc="-1" strike="noStrike">
                <a:solidFill>
                  <a:srgbClr val="ff0000"/>
                </a:solidFill>
                <a:latin typeface="Arial"/>
              </a:rPr>
              <a:t>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nslate each sentence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he is a frightened slave-gir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ter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cilla perterrita 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nslate each sentence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e is not a Roman sl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est servus Roman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nslate each sentence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am a good stu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a (Bon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ula (Discipul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 bona discip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nslate each sentence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ou all are good studen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u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i discipuli es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nslate each sentence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e do not like wolv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p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pos non amam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rite the correct word in the blank and explain your choice using complete sentenc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ENĒĀS ______________ PORT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NEX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SENEM?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T _____________   EX URBE DŪCIT.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ER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PUERU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direct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aeneas-flight" descr="???"/>
          <p:cNvPicPr/>
          <p:nvPr/>
        </p:nvPicPr>
        <p:blipFill>
          <a:blip r:embed="rId1"/>
          <a:stretch/>
        </p:blipFill>
        <p:spPr>
          <a:xfrm>
            <a:off x="5791320" y="3733920"/>
            <a:ext cx="251460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. What is 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nfinitiv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RR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Ā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 HŪM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U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</a:t>
            </a: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ĀRE</a:t>
            </a:r>
            <a:r>
              <a:rPr b="0" lang="e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2819160"/>
            <a:ext cx="83818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. When should you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stead o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en" sz="2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" sz="2400" spc="-1" strike="noStrike">
                <a:solidFill>
                  <a:srgbClr val="ffffff"/>
                </a:solidFill>
                <a:latin typeface="Arial"/>
              </a:rPr>
              <a:t>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T is plural, so you should use in when there are two or more people shou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1:11:08Z</dcterms:created>
  <dc:creator> Bellos Nisan</dc:creator>
  <dc:description/>
  <dc:language>en-US</dc:language>
  <cp:lastModifiedBy> Bellos Nisan</cp:lastModifiedBy>
  <dcterms:modified xsi:type="dcterms:W3CDTF">2009-11-24T01:55:39Z</dcterms:modified>
  <cp:revision>3</cp:revision>
  <dc:subject/>
  <dc:title>1. Give the English pronoun equivalent to each of the following Latin personal endings:</dc:title>
</cp:coreProperties>
</file>